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3300-0D17-4C26-90AF-B4D34EAD4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0867-9CFE-4498-AD1E-23CAF2C08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15DB-8A20-438F-99E2-CF7AA2E6B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9127-CBFF-42E4-9791-5A13D7C4B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9581-5CD3-4B1D-83CC-0D5E685C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EF2F-0AB8-4CD5-9AC4-195B1844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6C2B-31C3-4A8B-B764-2A53F939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38C5-A699-4859-BCE4-B0094603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CC76-1155-45DB-A4A6-9FABAC49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D720-1E6C-4FA3-BB47-E47041EC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5C70-8B4B-47A7-BDAF-FE92DEEF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6332-BCD5-4133-9647-13A9FB4B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E249-A7F0-441C-A482-7B95C6D4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BEC1-45D1-45B1-80D5-D4597D06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1A9A-DEEC-4248-B438-6F58C1CE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74E-7942-4568-ABED-8061848A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824C-6B81-42CE-9B6C-625A7B23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14DA-B2E8-4939-A3CA-06AC3A81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18BC-0715-468F-BF62-7FE7087D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0CB3-2B0D-467D-AF95-58E36F8B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C147-928F-4C3A-BF3E-F98B96F8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432F-F4D2-4067-8E94-44774FDD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6B76-A97A-42F9-A050-F857AA8F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7C2F-AA5D-466D-9140-A2970A1B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0B7-8F92-46D2-8DFF-382D13CE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8B9-C11A-4E8C-AE53-46A77F72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AD91-8452-4D17-9A7E-C643A995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D0C-B146-4D4D-882E-C27B2C96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E5CB-79CB-4CED-91B3-DA8781740B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45B3-A08D-4FB4-98E4-735606DD7C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1.jpeg"/><Relationship Id="rId9" Type="http://schemas.openxmlformats.org/officeDocument/2006/relationships/image" Target="../media/image21.jpeg"/><Relationship Id="rId10" Type="http://schemas.openxmlformats.org/officeDocument/2006/relationships/image" Target="../media/image21.jpeg"/><Relationship Id="rId11" Type="http://schemas.openxmlformats.org/officeDocument/2006/relationships/image" Target="../media/image21.jpeg"/><Relationship Id="rId12" Type="http://schemas.openxmlformats.org/officeDocument/2006/relationships/image" Target="../media/image21.jpeg"/><Relationship Id="rId13" Type="http://schemas.openxmlformats.org/officeDocument/2006/relationships/image" Target="../media/image21.jpeg"/><Relationship Id="rId14" Type="http://schemas.openxmlformats.org/officeDocument/2006/relationships/image" Target="../media/image21.jpeg"/><Relationship Id="rId15" Type="http://schemas.openxmlformats.org/officeDocument/2006/relationships/image" Target="../media/image21.jpe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molemap&amp;source=images&amp;cd=&amp;cad=rja&amp;docid=D_7TL6p0dxAAtM&amp;tbnid=90vUniL21RXVNM:&amp;ved=0CAUQjRw&amp;url=http%3A%2F%2Fblogs.reeths-puffer.org%2Fknappk%2F2011%2F12%2F07%2Fchemistry-unit-3-part-i-test-prep%2F&amp;ei=STBvUZj_NKeZ0QHUiYCAAQ&amp;bvm=bv.45368065,d.dmQ&amp;psig=AFQjCNH_tDDqCGG6GlaMHUBeJGSPS79WBA&amp;ust=1366327748120970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sodium&amp;source=images&amp;cd=&amp;cad=rja&amp;docid=g7x4cZglltb0PM&amp;tbnid=36EA-6_MWrArJM:&amp;ved=0CAUQjRw&amp;url=http%3A%2F%2Fwww.vanderkrogt.net%2Felements%2Felement.php%3Fsym%3DNa&amp;ei=Q-JvUb30NM2g4APN-IGYDQ&amp;bvm=bv.45368065,d.dmg&amp;psig=AFQjCNEku7cwOoMq5J0loNaZQ6cZneRZzA&amp;ust=1366373305288995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google.com/url?sa=i&amp;rct=j&amp;q=carbon+dioxide&amp;source=images&amp;cd=&amp;cad=rja&amp;docid=ZpBUfJUD4z9F0M&amp;tbnid=5k_he8Zyd2S3IM:&amp;ved=0CAUQjRw&amp;url=http%3A%2F%2Fblogs.e-rockford.com%2Fapplesauce%2F2013%2F03%2F06%2Fsharp-increase-in-atmospheric-carbon-dioxide-brings-climate-catastrophe-closer%2F&amp;ei=ceJvUeTPJvLG4AP2xYHIBw&amp;bvm=bv.45368065,d.dmg&amp;psig=AFQjCNGX8PzGixc2iG7QJXyniQuhZaQJKA&amp;ust=1366373352976013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Quant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rm-up #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685800" y="1752480"/>
            <a:ext cx="662940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tains more representative particles, a mole of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a mol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?</a:t>
            </a:r>
            <a:r>
              <a:rPr b="0" lang="en-US" sz="3200" spc="-1" strike="noStrike">
                <a:solidFill>
                  <a:srgbClr val="0707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://www.waste.katalyst-tt.com/sites/default/files/WebPics/Chemicals.png"/>
          <p:cNvPicPr/>
          <p:nvPr/>
        </p:nvPicPr>
        <p:blipFill>
          <a:blip r:embed="rId1"/>
          <a:stretch/>
        </p:blipFill>
        <p:spPr>
          <a:xfrm>
            <a:off x="4686480" y="2981160"/>
            <a:ext cx="445752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lume and the 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32588093"/>
          <p:cNvPicPr/>
          <p:nvPr/>
        </p:nvPicPr>
        <p:blipFill>
          <a:blip r:embed="rId1"/>
          <a:stretch/>
        </p:blipFill>
        <p:spPr>
          <a:xfrm>
            <a:off x="1371600" y="3809880"/>
            <a:ext cx="263052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533520" y="152388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Avogadro, the mass of one mole of a gas at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lways 22.4L regardless of the gas’ ident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203480" y="338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90240" y="3200400"/>
            <a:ext cx="69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P = Standard Temperature and Pressure (0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 and 1 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6a00d83453c2c669e20134885f52fb970c-800wi"/>
          <p:cNvPicPr/>
          <p:nvPr/>
        </p:nvPicPr>
        <p:blipFill>
          <a:blip r:embed="rId2"/>
          <a:stretch/>
        </p:blipFill>
        <p:spPr>
          <a:xfrm>
            <a:off x="4800600" y="3962520"/>
            <a:ext cx="2556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le-Volume Conver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8288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-12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moles of CO are contained in 1.8L of CO g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Liters of 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represented by 0.5 moles of 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http://i.telegraph.co.uk/multimedia/archive/01395/Carbon-dioxide_1395149c.jpg"/>
          <p:cNvPicPr/>
          <p:nvPr/>
        </p:nvPicPr>
        <p:blipFill>
          <a:blip r:embed="rId1"/>
          <a:stretch/>
        </p:blipFill>
        <p:spPr>
          <a:xfrm>
            <a:off x="6248520" y="228600"/>
            <a:ext cx="2678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ulti-Step Conver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http://blogs.reeths-puffer.org/knappk/files/2011/12/MoleRoadMap.png"/>
          <p:cNvPicPr/>
          <p:nvPr/>
        </p:nvPicPr>
        <p:blipFill>
          <a:blip r:embed="rId1"/>
          <a:stretch/>
        </p:blipFill>
        <p:spPr>
          <a:xfrm>
            <a:off x="1096920" y="1832040"/>
            <a:ext cx="3689280" cy="30304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0"/>
          <p:cNvSpPr/>
          <p:nvPr/>
        </p:nvSpPr>
        <p:spPr>
          <a:xfrm>
            <a:off x="2842920" y="33526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ole = 6.02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2"/>
          <p:cNvSpPr/>
          <p:nvPr/>
        </p:nvSpPr>
        <p:spPr>
          <a:xfrm>
            <a:off x="-226800" y="3352680"/>
            <a:ext cx="22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ole = molar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3"/>
          <p:cNvSpPr/>
          <p:nvPr/>
        </p:nvSpPr>
        <p:spPr>
          <a:xfrm>
            <a:off x="1561320" y="144792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ole = 22.4 L at S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571320" y="5105520"/>
            <a:ext cx="70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ass of 1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oms of Alumin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ttp://media1.onsugar.com/files/users/6/61259/43_2007/fab_55.jpg"/>
          <p:cNvPicPr/>
          <p:nvPr/>
        </p:nvPicPr>
        <p:blipFill>
          <a:blip r:embed="rId1"/>
          <a:stretch/>
        </p:blipFill>
        <p:spPr>
          <a:xfrm>
            <a:off x="5638680" y="10666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https://encrypted-tbn0.gstatic.com/images?q=tbn:ANd9GcTW7gw9sVRJgarm2Pdd_Bk53p0-Fhc-Cl8cAFJfpSUw5GEy49kmEg"/>
          <p:cNvPicPr/>
          <p:nvPr/>
        </p:nvPicPr>
        <p:blipFill>
          <a:blip r:embed="rId2"/>
          <a:stretch/>
        </p:blipFill>
        <p:spPr>
          <a:xfrm>
            <a:off x="762120" y="9907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rm-up #4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30477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reaction above. Using the parts below, how many of the product could be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https://encrypted-tbn1.gstatic.com/images?q=tbn:ANd9GcTBdMsKO4-BmanUDrwPIfRdcKeCV6-kG4NAmGhiPT6vr5LnIPXkdA"/>
          <p:cNvPicPr/>
          <p:nvPr/>
        </p:nvPicPr>
        <p:blipFill>
          <a:blip r:embed="rId3"/>
          <a:stretch/>
        </p:blipFill>
        <p:spPr>
          <a:xfrm>
            <a:off x="4038480" y="1752480"/>
            <a:ext cx="762120" cy="10670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3124080" y="167652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 4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Straight Arrow Connector 10"/>
          <p:cNvCxnSpPr/>
          <p:nvPr/>
        </p:nvCxnSpPr>
        <p:spPr>
          <a:xfrm>
            <a:off x="4952880" y="2209320"/>
            <a:ext cx="6105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72" name="Picture 8" descr="https://encrypted-tbn0.gstatic.com/images?q=tbn:ANd9GcTW7gw9sVRJgarm2Pdd_Bk53p0-Fhc-Cl8cAFJfpSUw5GEy49kmEg"/>
          <p:cNvPicPr/>
          <p:nvPr/>
        </p:nvPicPr>
        <p:blipFill>
          <a:blip r:embed="rId4"/>
          <a:srcRect l="0" t="29498" r="0" b="33647"/>
          <a:stretch/>
        </p:blipFill>
        <p:spPr>
          <a:xfrm>
            <a:off x="685800" y="5029200"/>
            <a:ext cx="2066760" cy="762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https://encrypted-tbn0.gstatic.com/images?q=tbn:ANd9GcTW7gw9sVRJgarm2Pdd_Bk53p0-Fhc-Cl8cAFJfpSUw5GEy49kmEg"/>
          <p:cNvPicPr/>
          <p:nvPr/>
        </p:nvPicPr>
        <p:blipFill>
          <a:blip r:embed="rId5"/>
          <a:srcRect l="0" t="29498" r="0" b="33647"/>
          <a:stretch/>
        </p:blipFill>
        <p:spPr>
          <a:xfrm>
            <a:off x="1295280" y="5791320"/>
            <a:ext cx="2067120" cy="761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https://encrypted-tbn0.gstatic.com/images?q=tbn:ANd9GcTW7gw9sVRJgarm2Pdd_Bk53p0-Fhc-Cl8cAFJfpSUw5GEy49kmEg"/>
          <p:cNvPicPr/>
          <p:nvPr/>
        </p:nvPicPr>
        <p:blipFill>
          <a:blip r:embed="rId6"/>
          <a:srcRect l="0" t="29498" r="0" b="33647"/>
          <a:stretch/>
        </p:blipFill>
        <p:spPr>
          <a:xfrm>
            <a:off x="1523880" y="4343400"/>
            <a:ext cx="2067120" cy="762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https://encrypted-tbn1.gstatic.com/images?q=tbn:ANd9GcTBdMsKO4-BmanUDrwPIfRdcKeCV6-kG4NAmGhiPT6vr5LnIPXkdA"/>
          <p:cNvPicPr/>
          <p:nvPr/>
        </p:nvPicPr>
        <p:blipFill>
          <a:blip r:embed="rId7"/>
          <a:stretch/>
        </p:blipFill>
        <p:spPr>
          <a:xfrm>
            <a:off x="6438960" y="502920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https://encrypted-tbn1.gstatic.com/images?q=tbn:ANd9GcTBdMsKO4-BmanUDrwPIfRdcKeCV6-kG4NAmGhiPT6vr5LnIPXkdA"/>
          <p:cNvPicPr/>
          <p:nvPr/>
        </p:nvPicPr>
        <p:blipFill>
          <a:blip r:embed="rId8"/>
          <a:stretch/>
        </p:blipFill>
        <p:spPr>
          <a:xfrm>
            <a:off x="8153280" y="502920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s://encrypted-tbn1.gstatic.com/images?q=tbn:ANd9GcTBdMsKO4-BmanUDrwPIfRdcKeCV6-kG4NAmGhiPT6vr5LnIPXkdA"/>
          <p:cNvPicPr/>
          <p:nvPr/>
        </p:nvPicPr>
        <p:blipFill>
          <a:blip r:embed="rId9"/>
          <a:stretch/>
        </p:blipFill>
        <p:spPr>
          <a:xfrm>
            <a:off x="7581960" y="502920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https://encrypted-tbn1.gstatic.com/images?q=tbn:ANd9GcTBdMsKO4-BmanUDrwPIfRdcKeCV6-kG4NAmGhiPT6vr5LnIPXkdA"/>
          <p:cNvPicPr/>
          <p:nvPr/>
        </p:nvPicPr>
        <p:blipFill>
          <a:blip r:embed="rId10"/>
          <a:stretch/>
        </p:blipFill>
        <p:spPr>
          <a:xfrm>
            <a:off x="5295960" y="502920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https://encrypted-tbn1.gstatic.com/images?q=tbn:ANd9GcTBdMsKO4-BmanUDrwPIfRdcKeCV6-kG4NAmGhiPT6vr5LnIPXkdA"/>
          <p:cNvPicPr/>
          <p:nvPr/>
        </p:nvPicPr>
        <p:blipFill>
          <a:blip r:embed="rId11"/>
          <a:stretch/>
        </p:blipFill>
        <p:spPr>
          <a:xfrm>
            <a:off x="4724280" y="502920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s://encrypted-tbn1.gstatic.com/images?q=tbn:ANd9GcTBdMsKO4-BmanUDrwPIfRdcKeCV6-kG4NAmGhiPT6vr5LnIPXkdA"/>
          <p:cNvPicPr/>
          <p:nvPr/>
        </p:nvPicPr>
        <p:blipFill>
          <a:blip r:embed="rId12"/>
          <a:stretch/>
        </p:blipFill>
        <p:spPr>
          <a:xfrm>
            <a:off x="7010280" y="502920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https://encrypted-tbn1.gstatic.com/images?q=tbn:ANd9GcTBdMsKO4-BmanUDrwPIfRdcKeCV6-kG4NAmGhiPT6vr5LnIPXkdA"/>
          <p:cNvPicPr/>
          <p:nvPr/>
        </p:nvPicPr>
        <p:blipFill>
          <a:blip r:embed="rId13"/>
          <a:stretch/>
        </p:blipFill>
        <p:spPr>
          <a:xfrm>
            <a:off x="4152960" y="502920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https://encrypted-tbn1.gstatic.com/images?q=tbn:ANd9GcTBdMsKO4-BmanUDrwPIfRdcKeCV6-kG4NAmGhiPT6vr5LnIPXkdA"/>
          <p:cNvPicPr/>
          <p:nvPr/>
        </p:nvPicPr>
        <p:blipFill>
          <a:blip r:embed="rId14"/>
          <a:stretch/>
        </p:blipFill>
        <p:spPr>
          <a:xfrm>
            <a:off x="5867280" y="502920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s://encrypted-tbn1.gstatic.com/images?q=tbn:ANd9GcTBdMsKO4-BmanUDrwPIfRdcKeCV6-kG4NAmGhiPT6vr5LnIPXkdA"/>
          <p:cNvPicPr/>
          <p:nvPr/>
        </p:nvPicPr>
        <p:blipFill>
          <a:blip r:embed="rId15"/>
          <a:stretch/>
        </p:blipFill>
        <p:spPr>
          <a:xfrm>
            <a:off x="3581280" y="5029200"/>
            <a:ext cx="7621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Stoichiometr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ichiometry is the study of quantitative relationships between amounts of reactants used and products formed by a chemical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l_product_image"/>
          <p:cNvPicPr/>
          <p:nvPr/>
        </p:nvPicPr>
        <p:blipFill>
          <a:blip r:embed="rId1"/>
          <a:stretch/>
        </p:blipFill>
        <p:spPr>
          <a:xfrm>
            <a:off x="2666880" y="3556080"/>
            <a:ext cx="342900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ctical Applications of Stoichiomet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spacecraft, the carbon dioxide exhaled by astronauts can be removed by its reaction with lithium hydroxide, LiOH, according to the following chemical equatio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+ 2LiOH(s)    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l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oles of lithium hydroxide are required to react with 20 mol of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average amount exhaled by a person each d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39625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rategy – Relate everything to the mo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mole01"/>
          <p:cNvPicPr/>
          <p:nvPr/>
        </p:nvPicPr>
        <p:blipFill>
          <a:blip r:embed="rId1"/>
          <a:stretch/>
        </p:blipFill>
        <p:spPr>
          <a:xfrm>
            <a:off x="6019920" y="1371600"/>
            <a:ext cx="2971800" cy="20480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533520" y="190512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le is the common thread that links reactants to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838080" y="3657600"/>
            <a:ext cx="78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+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H(s)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) +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41148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3962520" y="4495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2"/>
              <p:cNvSpPr txBox="1"/>
              <p:nvPr/>
            </p:nvSpPr>
            <p:spPr>
              <a:xfrm>
                <a:off x="457200" y="5181480"/>
                <a:ext cx="1523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olLiO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13"/>
              <p:cNvSpPr txBox="1"/>
              <p:nvPr/>
            </p:nvSpPr>
            <p:spPr>
              <a:xfrm>
                <a:off x="2057400" y="5181480"/>
                <a:ext cx="160164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L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4"/>
              <p:cNvSpPr txBox="1"/>
              <p:nvPr/>
            </p:nvSpPr>
            <p:spPr>
              <a:xfrm>
                <a:off x="3849840" y="5143680"/>
                <a:ext cx="12920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5"/>
              <p:cNvSpPr txBox="1"/>
              <p:nvPr/>
            </p:nvSpPr>
            <p:spPr>
              <a:xfrm>
                <a:off x="5219640" y="5143680"/>
                <a:ext cx="16020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olLiOH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L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6"/>
              <p:cNvSpPr txBox="1"/>
              <p:nvPr/>
            </p:nvSpPr>
            <p:spPr>
              <a:xfrm>
                <a:off x="7012080" y="5105520"/>
                <a:ext cx="15224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olLiOH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le Super Highw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http://moodleshare.org/pluginfile.php/8845/mod_page/content/1/Stoichiometry/Images/Topic_5/Full_Road_Map.jpg"/>
          <p:cNvPicPr/>
          <p:nvPr/>
        </p:nvPicPr>
        <p:blipFill>
          <a:blip r:embed="rId1"/>
          <a:stretch/>
        </p:blipFill>
        <p:spPr>
          <a:xfrm>
            <a:off x="1143000" y="1447920"/>
            <a:ext cx="6284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ichiometry Practice Proble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879920" y="1600200"/>
            <a:ext cx="496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      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Straight Arrow Connector 8"/>
          <p:cNvCxnSpPr/>
          <p:nvPr/>
        </p:nvCxnSpPr>
        <p:spPr>
          <a:xfrm>
            <a:off x="4647960" y="1904760"/>
            <a:ext cx="6865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TextBox 9"/>
          <p:cNvSpPr/>
          <p:nvPr/>
        </p:nvSpPr>
        <p:spPr>
          <a:xfrm>
            <a:off x="609480" y="25909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oles of water can be form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les of oxyg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685800" y="45720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grams of water can be form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0 grams of hydrogen gas 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all these things have in common with the m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Donuts"/>
          <p:cNvPicPr/>
          <p:nvPr/>
        </p:nvPicPr>
        <p:blipFill>
          <a:blip r:embed="rId1"/>
          <a:stretch/>
        </p:blipFill>
        <p:spPr>
          <a:xfrm>
            <a:off x="914400" y="3465360"/>
            <a:ext cx="2319480" cy="1760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ANd9GcRQlmY-IEAeUfCcA09UlJJodBB9jxZ6sdjOLeAE5c3R-zJi7FwIlg&amp;t=1"/>
          <p:cNvPicPr/>
          <p:nvPr/>
        </p:nvPicPr>
        <p:blipFill>
          <a:blip r:embed="rId2"/>
          <a:stretch/>
        </p:blipFill>
        <p:spPr>
          <a:xfrm>
            <a:off x="3581280" y="3429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COKE"/>
          <p:cNvPicPr/>
          <p:nvPr/>
        </p:nvPicPr>
        <p:blipFill>
          <a:blip r:embed="rId3"/>
          <a:stretch/>
        </p:blipFill>
        <p:spPr>
          <a:xfrm>
            <a:off x="6248520" y="3429000"/>
            <a:ext cx="2381040" cy="18478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0"/>
          <p:cNvSpPr/>
          <p:nvPr/>
        </p:nvSpPr>
        <p:spPr>
          <a:xfrm>
            <a:off x="1530720" y="54100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d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4425120" y="54100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7018200" y="54100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six 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1905120" y="6095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   They all represent qua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387000" y="457200"/>
            <a:ext cx="325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rm-up #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535320" y="1676520"/>
            <a:ext cx="3431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gred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1/4 cups all-purpose fl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easpoon baking so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easpoon sa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cup (2 sticks) butter, softe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4 cup granulated sug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4 cup packed brown sug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easpoon vanilla ex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large eg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cups (12-oz. pkg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cup chopped n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ield:  24 cook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02x23879"/>
          <p:cNvPicPr/>
          <p:nvPr/>
        </p:nvPicPr>
        <p:blipFill>
          <a:blip r:embed="rId1"/>
          <a:stretch/>
        </p:blipFill>
        <p:spPr>
          <a:xfrm>
            <a:off x="4191120" y="1752480"/>
            <a:ext cx="3741480" cy="33530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685800" y="54100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ookies can be made if I only have 1 stick of butter and 1 cup of sugar (and the exact quantity of the other ingredients in the recipe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asuring Mat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m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e (mol) is the SI base unit used to measure the amount of a sub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 = 6.02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ative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02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Avogadro’s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e particles are the units used in these conver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3352680" y="5410080"/>
            <a:ext cx="32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s N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91240" y="6019920"/>
            <a:ext cx="851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s, formula units (ionic compounds), molecules (covalent compou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profitablegrowth.com/wp-content/uploads/2010/01/Mole.jpg"/>
          <p:cNvPicPr/>
          <p:nvPr/>
        </p:nvPicPr>
        <p:blipFill>
          <a:blip r:embed="rId1"/>
          <a:stretch/>
        </p:blipFill>
        <p:spPr>
          <a:xfrm>
            <a:off x="6248520" y="228600"/>
            <a:ext cx="24382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3960" y="17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verything Leads to the 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blogs.reeths-puffer.org/knappk/files/2011/12/MoleRoadMap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1843200"/>
            <a:ext cx="5639040" cy="48481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0"/>
          <p:cNvSpPr/>
          <p:nvPr/>
        </p:nvSpPr>
        <p:spPr>
          <a:xfrm>
            <a:off x="5522040" y="43876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ole = 6.02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905040" y="4387680"/>
            <a:ext cx="22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ole = molar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3169440" y="147312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ole = 22.4 L at S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le to Particle Conver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olecules of water are there in 2.4 moles of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oles of copper contain 3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pper ato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1922400" y="13716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mole = 6.02 x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3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rm-up #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14479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ss of this bicycle given the mass of it’s individual par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wheel = 0.5 kg, 1frame = 5 kg, 1seat = 0.2 k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et of handlebars = 1k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s://encrypted-tbn1.gstatic.com/images?q=tbn:ANd9GcQGIztAjwxNlDwEOyqzqlI4mnrvcRXlSlRZ_dylHPG2d_ypkjedLg"/>
          <p:cNvPicPr/>
          <p:nvPr/>
        </p:nvPicPr>
        <p:blipFill>
          <a:blip r:embed="rId1"/>
          <a:stretch/>
        </p:blipFill>
        <p:spPr>
          <a:xfrm>
            <a:off x="2208240" y="3657600"/>
            <a:ext cx="4159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ss and the 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lead"/>
          <p:cNvPicPr/>
          <p:nvPr/>
        </p:nvPicPr>
        <p:blipFill>
          <a:blip r:embed="rId1"/>
          <a:stretch/>
        </p:blipFill>
        <p:spPr>
          <a:xfrm>
            <a:off x="533520" y="3406680"/>
            <a:ext cx="2209680" cy="1770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Copper"/>
          <p:cNvPicPr/>
          <p:nvPr/>
        </p:nvPicPr>
        <p:blipFill>
          <a:blip r:embed="rId2"/>
          <a:stretch/>
        </p:blipFill>
        <p:spPr>
          <a:xfrm>
            <a:off x="6172200" y="3352680"/>
            <a:ext cx="2362320" cy="1944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609480" y="14479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s of one mole of a substance is unique to that substance and is based on the sum of the atomic masses of the elements in that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water"/>
          <p:cNvPicPr/>
          <p:nvPr/>
        </p:nvPicPr>
        <p:blipFill>
          <a:blip r:embed="rId3"/>
          <a:stretch/>
        </p:blipFill>
        <p:spPr>
          <a:xfrm>
            <a:off x="3276720" y="3352680"/>
            <a:ext cx="2361960" cy="1890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5"/>
          <p:cNvSpPr/>
          <p:nvPr/>
        </p:nvSpPr>
        <p:spPr>
          <a:xfrm>
            <a:off x="228600" y="5486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le of lead = 207.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3200400" y="5486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le of water = 18.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6172200" y="5410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le of copper = 63.6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921960" y="6019920"/>
            <a:ext cx="751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7ff"/>
                </a:solidFill>
                <a:latin typeface="Arial"/>
              </a:rPr>
              <a:t>Mass of H</a:t>
            </a:r>
            <a:r>
              <a:rPr b="0" lang="en-US" sz="1800" spc="-1" strike="noStrike" baseline="-25000">
                <a:solidFill>
                  <a:srgbClr val="0707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707ff"/>
                </a:solidFill>
                <a:latin typeface="Arial"/>
              </a:rPr>
              <a:t>O = mass of two hydrogen atoms + mass of one oxyge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lculating Molar Ma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520" y="1447560"/>
            <a:ext cx="7396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ar mass of elements is equal to their atomic mass from 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1 mole of Fe atoms = 55.847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ar mass of compounds is equal to the sum of the atomic masses of the individual elements in that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1 mole of 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 x 55.847) + (3 x 32.066) + (12 x 15.999) = 401.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7315200" y="2666880"/>
            <a:ext cx="138096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le-Mass Conver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447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mole-particle conversions where the conversion factor is always 1mole = 6.0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les, each mole-mass conversion factor is unique to the substance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414000" y="3048120"/>
            <a:ext cx="69105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 2.3 moles of sodium (Na) to grams of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10.0 g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oles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http://www.vanderkrogt.net/elements/images/elements/Na_sodiu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3581280"/>
            <a:ext cx="1712880" cy="1219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ttp://t1.gstatic.com/images?q=tbn:ANd9GcTXe0tqkpQfm6m18w499582XbqLMdXfLrurcUt8BMRnnxzhx8r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8880" y="5295960"/>
            <a:ext cx="16765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3:39:21Z</dcterms:created>
  <dc:creator>udsd</dc:creator>
  <dc:description/>
  <dc:language>en-US</dc:language>
  <cp:lastModifiedBy>dpav</cp:lastModifiedBy>
  <dcterms:modified xsi:type="dcterms:W3CDTF">2013-04-18T17:48:12Z</dcterms:modified>
  <cp:revision>47</cp:revision>
  <dc:subject/>
  <dc:title>The Mole</dc:title>
</cp:coreProperties>
</file>